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FDD80-798A-4B1D-9E57-2E9BE0666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43000"/>
            <a:ext cx="8379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1000" cy="19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1040"/>
            <a:ext cx="8001000" cy="19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B8660-7ED1-42B1-B57A-20FFFAE72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243000"/>
            <a:ext cx="8379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3904200" cy="19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37400" y="1905120"/>
            <a:ext cx="3904200" cy="19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1040"/>
            <a:ext cx="3904200" cy="19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37400" y="4091040"/>
            <a:ext cx="3904200" cy="19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8159D-ACCE-471E-98B8-E93CCF40B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6840" y="243000"/>
            <a:ext cx="8379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2576160" cy="19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3120" y="1905120"/>
            <a:ext cx="2576160" cy="19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48520" y="1905120"/>
            <a:ext cx="2576160" cy="19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1040"/>
            <a:ext cx="2576160" cy="19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3120" y="4091040"/>
            <a:ext cx="2576160" cy="19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48520" y="4091040"/>
            <a:ext cx="2576160" cy="19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76C61-2438-4C84-86C7-CF98F9BA5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8C133-BECA-4262-AA27-161D4B6B5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43000"/>
            <a:ext cx="8379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5120"/>
            <a:ext cx="800100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90A1E-FDFE-48DF-9865-87C79E0B6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43000"/>
            <a:ext cx="8379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1000" cy="41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4828B-C693-40BA-A131-1029A39C1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243000"/>
            <a:ext cx="8379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3904200" cy="41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37400" y="1905120"/>
            <a:ext cx="3904200" cy="41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5EA9A-E947-4519-8F03-D04C6A343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43000"/>
            <a:ext cx="8379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9F4D7-E192-493E-8177-2E781013E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6840" y="243000"/>
            <a:ext cx="837900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34E9E-E867-429B-9A32-862C4AC52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43000"/>
            <a:ext cx="8379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3904200" cy="19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37400" y="1905120"/>
            <a:ext cx="3904200" cy="41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1040"/>
            <a:ext cx="3904200" cy="19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B5134-2FA3-41B6-B2E4-4F2119C5D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43000"/>
            <a:ext cx="8379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5120"/>
            <a:ext cx="800100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3B7D6-5BEB-4033-AD4D-C821ADA20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43000"/>
            <a:ext cx="8379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3904200" cy="41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37400" y="1905120"/>
            <a:ext cx="3904200" cy="19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37400" y="4091040"/>
            <a:ext cx="3904200" cy="19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DF220-984E-4FB2-BEB6-1C8F5BDC9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243000"/>
            <a:ext cx="8379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3904200" cy="19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37400" y="1905120"/>
            <a:ext cx="3904200" cy="19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1040"/>
            <a:ext cx="8001000" cy="19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6C83E-1198-44D3-A0E0-A825D9441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6840" y="243000"/>
            <a:ext cx="8379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1000" cy="19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1040"/>
            <a:ext cx="8001000" cy="19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594BA-1441-467E-B706-C4261D0A0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43000"/>
            <a:ext cx="8379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3904200" cy="19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37400" y="1905120"/>
            <a:ext cx="3904200" cy="19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1040"/>
            <a:ext cx="3904200" cy="19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37400" y="4091040"/>
            <a:ext cx="3904200" cy="19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F673D-2C08-4F6D-822A-350846595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6840" y="243000"/>
            <a:ext cx="8379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2576160" cy="19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3120" y="1905120"/>
            <a:ext cx="2576160" cy="19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48520" y="1905120"/>
            <a:ext cx="2576160" cy="19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1040"/>
            <a:ext cx="2576160" cy="19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3120" y="4091040"/>
            <a:ext cx="2576160" cy="19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48520" y="4091040"/>
            <a:ext cx="2576160" cy="19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7D4EE-5937-41DF-AD38-C39A1DA83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43000"/>
            <a:ext cx="8379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1000" cy="41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0322B-3806-43DD-9ED0-44CDEE094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43000"/>
            <a:ext cx="8379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3904200" cy="41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37400" y="1905120"/>
            <a:ext cx="3904200" cy="41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EDEDF-7822-4522-B308-9AA261CBE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6840" y="243000"/>
            <a:ext cx="8379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FC724-E0FD-488C-89DC-0883C3859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6840" y="243000"/>
            <a:ext cx="837900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74CC4-01E1-46C2-A43D-1F9EB6711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243000"/>
            <a:ext cx="8379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3904200" cy="19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37400" y="1905120"/>
            <a:ext cx="3904200" cy="41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1040"/>
            <a:ext cx="3904200" cy="19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4E6BA-B670-49E3-878D-F6633EFBA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243000"/>
            <a:ext cx="8379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3904200" cy="41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7400" y="1905120"/>
            <a:ext cx="3904200" cy="19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37400" y="4091040"/>
            <a:ext cx="3904200" cy="19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1077E-7013-481E-9DE5-C690F4D33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43000"/>
            <a:ext cx="8379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3904200" cy="19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7400" y="1905120"/>
            <a:ext cx="3904200" cy="19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1040"/>
            <a:ext cx="8001000" cy="19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5F240-D2CE-48D7-987E-439920CF8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8080" y="6244920"/>
            <a:ext cx="189576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9000" y="6244920"/>
            <a:ext cx="288936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&lt;footer&gt;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7200" y="6244920"/>
            <a:ext cx="189576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64D024-9688-4AAE-BED5-4F13CCA63CB3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6840" y="243000"/>
            <a:ext cx="8379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5120"/>
            <a:ext cx="8001000" cy="41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65920" cy="173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89540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8936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7200" y="6244920"/>
            <a:ext cx="189576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527A55-E995-4266-AF54-33580AF183A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685800" y="625320"/>
            <a:ext cx="7772400" cy="44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7200"/>
            </a:br>
            <a:r>
              <a:rPr b="1" lang="en-US" sz="7200" spc="-1" strike="noStrike">
                <a:solidFill>
                  <a:srgbClr val="ffffb7"/>
                </a:solidFill>
                <a:latin typeface="Arial Black"/>
              </a:rPr>
              <a:t>17.3</a:t>
            </a:r>
            <a:br>
              <a:rPr sz="7200"/>
            </a:br>
            <a:r>
              <a:rPr b="1" lang="en-US" sz="7200" spc="-1" strike="noStrike">
                <a:solidFill>
                  <a:srgbClr val="ffffb7"/>
                </a:solidFill>
                <a:latin typeface="Arial Black"/>
              </a:rPr>
              <a:t>The Great Society</a:t>
            </a:r>
            <a:endParaRPr b="0" lang="en-US" sz="7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38368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D. The Great Society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51656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 Wanted to build a better socie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 CRA of '64 and VRA of '65 were includ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 More than 60 programs created between 1965 and 196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5029200" y="1371600"/>
            <a:ext cx="3657600" cy="5029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240840"/>
            <a:ext cx="8381880" cy="14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E. Great Society Program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-360" y="1828800"/>
            <a:ext cx="4343400" cy="41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 **Medica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. Healthcare for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nior citize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. 1965: Over half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f seniors have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 health c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. Funded through Social Secur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4572000" y="1600200"/>
            <a:ext cx="4572000" cy="457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8686800" cy="6400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40840"/>
            <a:ext cx="8381880" cy="14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2. **Medicaid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905280" cy="41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. Health care for those on welfa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. Funded through federal and state governments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4800600" y="1828800"/>
            <a:ext cx="4114800" cy="4343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2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240840"/>
            <a:ext cx="8381880" cy="14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3. Education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43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. Elementary and Secondary Education A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. Money given to school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. **Head Sta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. Helped disadvantaged preschool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. Upward Boun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. Help prepare low income teenagers for colleg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4572000" y="1600200"/>
            <a:ext cx="4343400" cy="457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20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20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20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200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2000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240840"/>
            <a:ext cx="8381880" cy="14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4. Department of Housing and Urban Developmen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90528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. Dealt with living conditions in the c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. **Robert Wea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. 1</a:t>
            </a:r>
            <a:r>
              <a:rPr b="0" lang="en-US" sz="2800" spc="-1" strike="noStrike" baseline="33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ecretary of HU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i. 1</a:t>
            </a:r>
            <a:r>
              <a:rPr b="0" lang="en-US" sz="2800" spc="-1" strike="noStrike" baseline="33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frican American to serve in the cabi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5029200" y="1828800"/>
            <a:ext cx="3886200" cy="4800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0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2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20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2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20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240840"/>
            <a:ext cx="8381880" cy="14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5. Immigration Act, 1965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38120" y="1979640"/>
            <a:ext cx="3905280" cy="41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. Eliminated the national origin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. Opened the door for other immigra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572000" y="1371600"/>
            <a:ext cx="4343400" cy="5257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2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20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194760"/>
            <a:ext cx="8381880" cy="15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F. Great Society's Legacy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800424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 Success and impact was limi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. Some programs became unmanage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i. Some people expected more, others l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ii. Funds hurt because of Vietn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 Question created by the Great Society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. How can the federal government help the disadvantaged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0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2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20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20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20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2000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2000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Lesson Objective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0760"/>
                <a:tab algn="l" pos="9597960"/>
                <a:tab algn="l" pos="10055160"/>
                <a:tab algn="l" pos="10512360"/>
                <a:tab algn="l" pos="1051416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 The students will be able to explain the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eat Societ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0760"/>
                <a:tab algn="l" pos="9597960"/>
                <a:tab algn="l" pos="10055160"/>
                <a:tab algn="l" pos="10512360"/>
                <a:tab algn="l" pos="1051416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 The students will be able to discuss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different programs from the Great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ciet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0760"/>
                <a:tab algn="l" pos="9597960"/>
                <a:tab algn="l" pos="10055160"/>
                <a:tab algn="l" pos="10512360"/>
                <a:tab algn="l" pos="1051416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 The students will be able to create a propaganda poster to persuade the public into believing the Great Societ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94760"/>
            <a:ext cx="8383680" cy="15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A. President Johnson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888920"/>
            <a:ext cx="3906720" cy="42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 Became president on November 22nd, 1963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 Urged Americans to continue what Kennedy started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343400" y="1828800"/>
            <a:ext cx="4572000" cy="457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228600" y="685800"/>
            <a:ext cx="3906720" cy="586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0760"/>
                <a:tab algn="l" pos="9597960"/>
                <a:tab algn="l" pos="10055160"/>
                <a:tab algn="l" pos="10512360"/>
                <a:tab algn="l" pos="1051416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 Came from a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or fami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0760"/>
                <a:tab algn="l" pos="9597960"/>
                <a:tab algn="l" pos="10055160"/>
                <a:tab algn="l" pos="10512360"/>
                <a:tab algn="l" pos="1051416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. **Formerly a school  teach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0760"/>
                <a:tab algn="l" pos="9597960"/>
                <a:tab algn="l" pos="10055160"/>
                <a:tab algn="l" pos="10512360"/>
                <a:tab algn="l" pos="1051416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. Style different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om Kenned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34308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0760"/>
                <a:tab algn="l" pos="9597960"/>
                <a:tab algn="l" pos="10055160"/>
                <a:tab algn="l" pos="10512360"/>
                <a:tab algn="l" pos="1051416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. Spoke directly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rough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34308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0760"/>
                <a:tab algn="l" pos="9597960"/>
                <a:tab algn="l" pos="10055160"/>
                <a:tab algn="l" pos="10512360"/>
                <a:tab algn="l" pos="1051416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. Worked to get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consensu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34308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0760"/>
                <a:tab algn="l" pos="9597960"/>
                <a:tab algn="l" pos="10055160"/>
                <a:tab algn="l" pos="10512360"/>
                <a:tab algn="l" pos="1051416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4343400" y="1143000"/>
            <a:ext cx="4572000" cy="5029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94760"/>
            <a:ext cx="8383680" cy="15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B. War on Poverty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390708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1. Help those Americans who needed it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. Low income famili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2.  Economic Opportunity Act, '64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. Inadequate public servic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. Ill-literac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. Unemploymen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4940280" y="1600200"/>
            <a:ext cx="3975120" cy="5029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0840"/>
            <a:ext cx="8383680" cy="14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3. Programs for American Youth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5165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. Neighborhood Youth Corp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. Work-Study Program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. Job Corp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. 16-21 year olds, helped with job skills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. **VISTA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. Volunteers in Service to America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i. Domestic Peace Corp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029200" y="1828800"/>
            <a:ext cx="4114800" cy="4800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228600" y="914400"/>
            <a:ext cx="8686800" cy="525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4280040" y="228600"/>
            <a:ext cx="4635360" cy="39672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4114800" cy="502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38368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. Election of 1964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600" y="1171080"/>
            <a:ext cx="43639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 Republican candid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. **Barry Goldwa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. Too aggressive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for America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 Johnson won in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ndsli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. Won all but 6   electoral college sta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4343400" y="1371600"/>
            <a:ext cx="4572000" cy="5029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1T17:17:22Z</dcterms:created>
  <dc:creator>Milner Lab User</dc:creator>
  <dc:description/>
  <dc:language>en-US</dc:language>
  <cp:lastModifiedBy>School District U46</cp:lastModifiedBy>
  <dcterms:modified xsi:type="dcterms:W3CDTF">2011-04-12T13:10:59Z</dcterms:modified>
  <cp:revision>8</cp:revision>
  <dc:subject/>
  <dc:title>17.3 The Great Society</dc:title>
</cp:coreProperties>
</file>